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9.png" ContentType="image/png"/>
  <Override PartName="/ppt/media/image30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DFA-6B53-489C-9D94-FE4E4E06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680-4EFF-4D93-8AAC-2F5292AE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7D9D6-BD57-40BE-A7DD-6FE8AEBE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975BF-B089-43EE-A777-756B3001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11161-EC34-4EAE-A84E-B5EB37E7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EE280-F565-4CDD-AB34-274B76B1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35F7D-6753-4A92-BE23-2CD73DA5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861DF-8126-4EDA-AF1A-A870EFD2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5070E-9549-478D-9C1E-E5ACC863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7CF17-0ADE-4A41-860D-A16EA4DB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B61A7-867A-4819-B56C-A4C600C6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D488E-3308-4864-A424-3E96E2E9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9B0-3546-4887-9002-7CF1CE7F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30499-2A3F-4296-935C-7D0BB6E5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DF7AB-BE7D-4DBB-AA65-209A2685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2E273-BE27-4070-AFA5-D56B4C2D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50013-6B0D-4E86-A638-5CDFF76D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0AD8A-75B6-44C3-81CB-6BED4177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E173C-9722-4677-84DC-DC91A792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BA6D5-0DDB-4F0B-8044-A0E9E10B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23D8D-8214-448F-A329-4E9BF6C1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0F5A6-52D2-407D-9B5B-F5B8E767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88A6F-4E79-4984-83A0-DB3F93B9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E8A9-5105-4A5D-8685-3992A660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B86BA-4BF0-41B0-8E9A-B8D1701A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748A8-D344-4BC2-A5E1-1EA02859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C60C9-2452-4993-AAC2-5BAE878B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71259-B444-41C8-BFF4-DE3B8FB3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33884-5DC0-4B6C-BBF6-5625020B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459FE-A1E4-458F-BC58-53FAB29E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9A1EE-0B92-44E7-9234-CAAFB568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7E6FD-2E56-4D7D-A347-148DF790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A9CE7-335E-4D84-9F75-BD4D3A56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69948-4074-496A-88D1-CB54C304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9F39-CF54-48C8-9372-4BE21AC6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D1A0A-B823-49FC-BA72-72627CC2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64A58-E01A-4BF5-B301-633C5700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1168D-4A04-4A97-83B7-4E882A28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CF019-1C34-4039-8BAD-48670659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AD918-DB21-4E24-94B5-85E321EA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D7A91-1286-4965-8322-8C7B10CF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2B5B9-C711-4FC4-BC8C-1ABE2318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05CAE-6726-440C-B8D1-8F7F5781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AAE41-7728-4C82-8115-3CD92089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4E296-EAF8-4A64-9CB7-9830C329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20B5-6F6B-42F5-9DFA-000A08C9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56E98-B07E-489F-9057-1CCAAD31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48C96-DD9B-4F9E-997B-B02AA951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093A3-D052-4517-A9D6-73B67F6A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496A7-5CEB-4E4A-95C5-A22EEFDD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6EB38-E302-4F88-A584-E43F2914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A3CE1B-CAFB-48B1-BBFE-318875AF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A6DFA-51E3-4ABA-95E9-B2FCB7B5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DA31B0-4916-4461-9FD9-5328E099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8E69B-DBC4-4ADB-90DB-6F29B00D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5D457-4D81-4106-9313-F9E5DD47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3D56-BFEE-4656-99F3-C067D00F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89665-6A9C-4960-8E19-7C7519D0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17CC4E-5636-4177-ACD9-8BA02982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968A41-4994-44AC-AAB7-6DCA0CE9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CFA0D-F73F-41B1-8B24-90ECD060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FF27BB-109A-47F0-B2B4-C6EB3035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0CD1F1-B21C-4A92-A20A-C082AC4A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B1B9F-59B7-4731-A738-70FA604B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D4FBDC-83DF-4641-9297-8C2753B0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888762-EEC6-4F07-AC69-0EB2D431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ECB175-7F80-48D1-A8EF-52DE6CDC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A9D6-C04E-45E3-A5BD-B03A9870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CCB7B9-ECA3-4A92-B7AC-2070F8E5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CC784-0111-44B0-9BAF-C44921DD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A78E81-050A-4DF2-AF6E-934D7FF7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C563E3-D3EA-47FE-BD93-C2CE5A6B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1EF3C-F4F1-492E-A70B-8EC99FBA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8507B5-89E1-49D4-A09B-5311D6AE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A4B03D-492A-43B5-85DF-B421014A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82FC29-1328-4E9D-9809-62B4EC99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54F369-2A6A-43F0-A43C-B9597905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7F6A-9B20-48E6-B341-AC501542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C928-6311-44FA-885C-80A61E58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E69E-8684-41FD-A133-08404ED2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D504-3A11-4DEA-81EF-6605A37C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F871-9EAA-48C7-844C-4DD1EBAB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11A7-3D3D-4361-A8FF-E2910F6D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C46D-399C-4C64-BE8F-BA7494B9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CA30-5BE9-44AC-8925-7806F8B3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B641-21E6-4378-8A54-CDE7B294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B3F0F-5BDD-4807-BC98-AAF274E1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6065D-1FE4-44D6-A9B3-B86F5EE4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E0412-697F-4BCD-B760-4C99E5DF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440B1-A4AF-4AC4-809A-43E3D664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BCFDC-E928-4995-8D8E-2CDA49F2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E401-9EF2-4A01-ABEE-FB474D9A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96E83-D9B3-4928-8E2F-E5AEFDC5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3CAE2-AD6D-4B84-BAB3-2951ECB1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D391F-3AC9-42F8-867F-8F51187D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606A2-8B26-4AE9-9376-F2B5B570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56293-BBDF-4015-945A-363F8699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E4205-3175-4C46-B93B-8D898EB5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CFDB2-DC75-4AFE-9862-D6E79811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95B41-FA41-49EB-B9C2-63E8277E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3C036-C266-4822-A519-C0344F89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06309-EB55-46E0-B426-18338C68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C6B0-47AB-4E6D-919F-37DAB456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C394A-44CA-4280-A326-DBAB3D64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F72A5-CD1A-488A-B777-EE8C8562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572B1-4C7C-4280-8271-69869033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85AE7-5A81-42F2-B806-12F3E7A9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C43AD-630E-4146-8175-2660A368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C212D-BE7E-49AB-919B-9D106B87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B4F73-904F-4575-94CD-9164F4B1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E5B67-7965-4A88-9D20-C90A5B00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2C431-DE86-40F0-B55C-5D692DCE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B04AE-52EB-4830-8231-4D98B2E4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9015-AB56-4EAE-8903-CF3B88DA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F5EC1-5AA4-4F5B-8C87-90ACFA3E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FE84B-0D06-4103-A107-48411885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91DA9-976D-435C-89E9-5CB9D475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F36E6-8BC3-4C48-9E22-ECC3FF77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52139-152C-4060-9105-681F7AB5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EE7D1-7619-4C2E-8AA9-F80E65B0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D6042-A041-424D-B66A-1DD23F26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BE9B5-5241-4FC6-BC0E-919C52FA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7ECF8-511D-49DE-8292-BD142E1C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1BE97-A699-45F6-AFB2-D8F40A8B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B108-340C-4CB5-B47F-FCD14C64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0E49A-4AE5-4A5F-9818-D4FABAF0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EBC14-672C-41AC-83F9-E7FB6A06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EC925-23A7-4FCB-AEF3-C8CE1D35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3EEC0-CEAA-4BA6-9FA9-241800F7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6A5BF-4ABD-4C09-A32A-7C1CE1D3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A73E2-2AFA-427A-BD6E-B9268A29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A8FC5-3FE5-4033-ABC0-C0135CC2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BF035-E7BA-478A-9B99-5011B223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DE8C1-6513-432D-A39E-40827256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14D43-B125-4C37-8C69-FD098435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2EB7-002B-4714-A953-B1F63E51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CA9B1-7387-4EB9-BB8B-CAF3691F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415E4-FAD1-47DE-ADEA-AEA36374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61EE0-07BA-497A-91FD-FD54ECBB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06A00-777C-43BA-9A57-79D9F670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F4F7B-4838-4DCB-A1D3-EAC36906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88B57-B3F5-4CA2-9D5F-1CB18D79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865DF-1718-488A-A60F-022D8630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00E42-2BC1-4777-A274-6ACF13C2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AB25A-BFC8-4AF5-A44C-6D857321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AD77A-7A0F-48B5-9CE4-B2F74187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CEFC-F3A2-40E1-AC5B-79C27681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3F113-A580-4D01-B170-F7B30041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62F64-F063-4523-B5CA-67D4A39A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16EB1-81BB-49E9-8488-1E032AE8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82F6E-C906-4FEB-A04A-FD6A4DE1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6A2F8-7EF4-442D-BFCD-0CE23B0C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DACC9-B698-4ECB-8FAB-172CE409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E818B-D9C5-43F0-B828-99D0564F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C5985-C4BC-487F-A62D-EF9F4927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1998C-456A-4E20-91B6-4C0E0C0A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83C55-F01A-42B3-808C-F42FB80E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0484-B07E-44A3-B9A5-86F92517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76CDC-CF52-4AF8-A8F5-D28704B0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22211-16F0-4FCF-902A-81D6A239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694A3-6F23-447E-935D-9E962907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77061-789A-45D4-A2F3-F3861F3B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2C8C8-A124-4B22-B2BF-1C993A7E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E926C-8D14-4A50-9011-5FB0CB69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B6F60-3287-43D7-B382-BC0D3D10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9C35A-F6D1-4872-B12F-8DFEF2BA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F9A08-1200-4C25-ACC6-45187F46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1DA57-A167-4A9A-9E68-F7400980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210A-C208-412F-89D5-B4E9B09017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133E-CD56-4081-A7D7-4A1BE50944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6900-765D-440F-9D8C-56F66443CA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665A-F44C-4FF4-966D-6984673992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528F-D126-456C-8AAB-1323682DA4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26CE-8782-4163-B74C-42638A4E64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B46D-7264-4847-99A8-E814A76C02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380E-6025-4C86-8A95-BCED51FF60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81F9-27EE-4CB6-A52F-6264D8C5A7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5349-6399-4AAF-A0E0-0C7C378E3E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2400-B017-4226-9FD0-0A113D1587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98DB-18CD-4557-8446-907C61A2AC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50E9-B7BD-49C2-AA54-80812D6314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414A-1F51-425A-9E88-7E16EF728D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523880" y="0"/>
            <a:ext cx="63439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0" y="6490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их исторических событий начались времена Московского государств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2743200" y="4572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7" name="Picture 3" descr="krestyanin"/>
          <p:cNvPicPr/>
          <p:nvPr/>
        </p:nvPicPr>
        <p:blipFill>
          <a:blip r:embed="rId3"/>
          <a:stretch/>
        </p:blipFill>
        <p:spPr>
          <a:xfrm>
            <a:off x="1981080" y="1219320"/>
            <a:ext cx="6120000" cy="46940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0" y="5693040"/>
            <a:ext cx="3505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бщение по план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зывается групп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жил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 занимались люди этой групп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чение группы для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2"/>
          <p:cNvSpPr txBox="1"/>
          <p:nvPr/>
        </p:nvSpPr>
        <p:spPr>
          <a:xfrm>
            <a:off x="2209680" y="457200"/>
            <a:ext cx="297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бояр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0" name="Picture 5" descr="mod67_1_9"/>
          <p:cNvPicPr/>
          <p:nvPr/>
        </p:nvPicPr>
        <p:blipFill>
          <a:blip r:embed="rId3"/>
          <a:stretch/>
        </p:blipFill>
        <p:spPr>
          <a:xfrm>
            <a:off x="228600" y="2286000"/>
            <a:ext cx="4809960" cy="3048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4"/>
          <a:stretch/>
        </p:blipFill>
        <p:spPr>
          <a:xfrm>
            <a:off x="5105520" y="1676520"/>
            <a:ext cx="3881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2"/>
          <p:cNvSpPr txBox="1"/>
          <p:nvPr/>
        </p:nvSpPr>
        <p:spPr>
          <a:xfrm>
            <a:off x="2286000" y="3808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вор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3" name="Picture 3" descr="ris014"/>
          <p:cNvPicPr/>
          <p:nvPr/>
        </p:nvPicPr>
        <p:blipFill>
          <a:blip r:embed="rId3"/>
          <a:stretch/>
        </p:blipFill>
        <p:spPr>
          <a:xfrm>
            <a:off x="2286000" y="1495440"/>
            <a:ext cx="3981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WordArt 2"/>
          <p:cNvSpPr txBox="1"/>
          <p:nvPr/>
        </p:nvSpPr>
        <p:spPr>
          <a:xfrm>
            <a:off x="2362320" y="5335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ельц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5" name="Picture 4" descr="strelec2s"/>
          <p:cNvPicPr/>
          <p:nvPr/>
        </p:nvPicPr>
        <p:blipFill>
          <a:blip r:embed="rId3"/>
          <a:stretch/>
        </p:blipFill>
        <p:spPr>
          <a:xfrm>
            <a:off x="4572000" y="1371600"/>
            <a:ext cx="4191120" cy="4632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4"/>
          <a:stretch/>
        </p:blipFill>
        <p:spPr>
          <a:xfrm>
            <a:off x="228600" y="1371600"/>
            <a:ext cx="4176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187236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Какие категории граждан населяли Московское государств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371600" y="152280"/>
            <a:ext cx="624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фрагмент памятника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у Федорову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9" name="Picture 3" descr="6"/>
          <p:cNvPicPr/>
          <p:nvPr/>
        </p:nvPicPr>
        <p:blipFill>
          <a:blip r:embed="rId5"/>
          <a:stretch/>
        </p:blipFill>
        <p:spPr>
          <a:xfrm>
            <a:off x="1905120" y="1523880"/>
            <a:ext cx="5340240" cy="4500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-2160" y="6216840"/>
            <a:ext cx="85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О каком замечательном научном изобретении прочитали? Кому оно принадлежит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Подумайте, какое значение имело для жителей Московского государства начало книгопечатани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2"/>
          <p:cNvSpPr txBox="1"/>
          <p:nvPr/>
        </p:nvSpPr>
        <p:spPr>
          <a:xfrm>
            <a:off x="349200" y="304920"/>
            <a:ext cx="426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а "Апостола"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2" name="Picture 3" descr="апостол"/>
          <p:cNvPicPr/>
          <p:nvPr/>
        </p:nvPicPr>
        <p:blipFill>
          <a:blip r:embed="rId3"/>
          <a:stretch/>
        </p:blipFill>
        <p:spPr>
          <a:xfrm>
            <a:off x="304920" y="1523880"/>
            <a:ext cx="3238560" cy="5113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азбука"/>
          <p:cNvPicPr/>
          <p:nvPr/>
        </p:nvPicPr>
        <p:blipFill>
          <a:blip r:embed="rId4"/>
          <a:stretch/>
        </p:blipFill>
        <p:spPr>
          <a:xfrm>
            <a:off x="3657600" y="2438280"/>
            <a:ext cx="5181480" cy="4213440"/>
          </a:xfrm>
          <a:prstGeom prst="rect">
            <a:avLst/>
          </a:prstGeom>
          <a:ln w="0">
            <a:noFill/>
          </a:ln>
        </p:spPr>
      </p:pic>
      <p:sp>
        <p:nvSpPr>
          <p:cNvPr id="634" name="WordArt 6"/>
          <p:cNvSpPr txBox="1"/>
          <p:nvPr/>
        </p:nvSpPr>
        <p:spPr>
          <a:xfrm>
            <a:off x="4343400" y="14479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ы "Азбуки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Задание на д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я № 34, 37 в рабочей тетра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 об отдыхе и труде основных слоев населения Московского государства в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-XVII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7" descr="andrei_rublev"/>
          <p:cNvPicPr/>
          <p:nvPr/>
        </p:nvPicPr>
        <p:blipFill>
          <a:blip r:embed="rId1"/>
          <a:stretch/>
        </p:blipFill>
        <p:spPr>
          <a:xfrm>
            <a:off x="420840" y="189000"/>
            <a:ext cx="3522600" cy="4419360"/>
          </a:xfrm>
          <a:prstGeom prst="rect">
            <a:avLst/>
          </a:prstGeom>
          <a:ln w="0">
            <a:noFill/>
          </a:ln>
        </p:spPr>
      </p:pic>
      <p:sp>
        <p:nvSpPr>
          <p:cNvPr id="593" name="WordArt 8"/>
          <p:cNvSpPr txBox="1"/>
          <p:nvPr/>
        </p:nvSpPr>
        <p:spPr>
          <a:xfrm>
            <a:off x="228600" y="47242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Андрей Рублёв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990720" y="5486400"/>
            <a:ext cx="2438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живопис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3" descr="8_1"/>
          <p:cNvPicPr/>
          <p:nvPr/>
        </p:nvPicPr>
        <p:blipFill>
          <a:blip r:embed="rId4"/>
          <a:stretch/>
        </p:blipFill>
        <p:spPr>
          <a:xfrm>
            <a:off x="4840200" y="2243160"/>
            <a:ext cx="3511800" cy="4352760"/>
          </a:xfrm>
          <a:prstGeom prst="rect">
            <a:avLst/>
          </a:prstGeom>
          <a:ln w="0">
            <a:noFill/>
          </a:ln>
        </p:spPr>
      </p:pic>
      <p:sp>
        <p:nvSpPr>
          <p:cNvPr id="596" name="WordArt 2"/>
          <p:cNvSpPr txBox="1"/>
          <p:nvPr/>
        </p:nvSpPr>
        <p:spPr>
          <a:xfrm>
            <a:off x="4419720" y="9144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кона "Троица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2"/>
          <p:cNvSpPr txBox="1"/>
          <p:nvPr/>
        </p:nvSpPr>
        <p:spPr>
          <a:xfrm>
            <a:off x="4572000" y="1066680"/>
            <a:ext cx="45720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ергий Радонежский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8" name="Picture 3" descr="file23at26"/>
          <p:cNvPicPr/>
          <p:nvPr/>
        </p:nvPicPr>
        <p:blipFill>
          <a:blip r:embed="rId3"/>
          <a:stretch/>
        </p:blipFill>
        <p:spPr>
          <a:xfrm>
            <a:off x="228600" y="76212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5029200" y="2590920"/>
            <a:ext cx="37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тель и настоятель Троице-Сергиева мон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2"/>
          <p:cNvSpPr txBox="1"/>
          <p:nvPr/>
        </p:nvSpPr>
        <p:spPr>
          <a:xfrm>
            <a:off x="0" y="533520"/>
            <a:ext cx="50292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митрий Донской</a:t>
            </a:r>
            <a:endParaRPr b="1" lang="en-US" sz="1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04920" y="2438280"/>
            <a:ext cx="435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 и Владимирский, сын Ивана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3"/>
          <a:stretch/>
        </p:blipFill>
        <p:spPr>
          <a:xfrm>
            <a:off x="5029200" y="609480"/>
            <a:ext cx="3765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WordArt 2"/>
          <p:cNvSpPr txBox="1"/>
          <p:nvPr/>
        </p:nvSpPr>
        <p:spPr>
          <a:xfrm>
            <a:off x="152280" y="457200"/>
            <a:ext cx="883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 III Васильевич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4" name="Picture 3" descr="ioann3Russ_001"/>
          <p:cNvPicPr/>
          <p:nvPr/>
        </p:nvPicPr>
        <p:blipFill>
          <a:blip r:embed="rId3"/>
          <a:stretch/>
        </p:blipFill>
        <p:spPr>
          <a:xfrm>
            <a:off x="304920" y="1371600"/>
            <a:ext cx="4400280" cy="4896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4"/>
          <p:cNvSpPr/>
          <p:nvPr/>
        </p:nvSpPr>
        <p:spPr>
          <a:xfrm>
            <a:off x="4788000" y="1700280"/>
            <a:ext cx="43560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, сын Васил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ем сложилось единое Российское государство, было свергнуто монголо-татарское иго</a:t>
            </a:r>
            <a:r>
              <a:rPr b="1" lang="ru-RU" sz="3200" spc="-1" strike="noStrike">
                <a:solidFill>
                  <a:srgbClr val="ffffff"/>
                </a:solidFill>
                <a:latin typeface="CyrillicGoth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5562720" y="457200"/>
            <a:ext cx="3338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внутри 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7" name="Picture 4" descr="home"/>
          <p:cNvPicPr/>
          <p:nvPr/>
        </p:nvPicPr>
        <p:blipFill>
          <a:blip r:embed="rId5"/>
          <a:srcRect l="0" t="0" r="0" b="1058"/>
          <a:stretch/>
        </p:blipFill>
        <p:spPr>
          <a:xfrm>
            <a:off x="228600" y="228600"/>
            <a:ext cx="5197320" cy="3276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alapaevsk9"/>
          <p:cNvPicPr/>
          <p:nvPr/>
        </p:nvPicPr>
        <p:blipFill>
          <a:blip r:embed="rId6"/>
          <a:stretch/>
        </p:blipFill>
        <p:spPr>
          <a:xfrm>
            <a:off x="3886200" y="3276720"/>
            <a:ext cx="5033880" cy="33224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6"/>
          <p:cNvSpPr/>
          <p:nvPr/>
        </p:nvSpPr>
        <p:spPr>
          <a:xfrm>
            <a:off x="0" y="625032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мотрите избу, её убранство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пишите, как выглядит изба внутр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08220214"/>
          <p:cNvPicPr/>
          <p:nvPr/>
        </p:nvPicPr>
        <p:blipFill>
          <a:blip r:embed="rId1"/>
          <a:stretch/>
        </p:blipFill>
        <p:spPr>
          <a:xfrm>
            <a:off x="228600" y="228600"/>
            <a:ext cx="4626000" cy="3467160"/>
          </a:xfrm>
          <a:prstGeom prst="rect">
            <a:avLst/>
          </a:prstGeom>
          <a:ln w="0">
            <a:noFill/>
          </a:ln>
        </p:spPr>
      </p:pic>
      <p:sp>
        <p:nvSpPr>
          <p:cNvPr id="611" name="WordArt 3"/>
          <p:cNvSpPr txBox="1"/>
          <p:nvPr/>
        </p:nvSpPr>
        <p:spPr>
          <a:xfrm>
            <a:off x="4967280" y="762120"/>
            <a:ext cx="4176720" cy="16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 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наружи</a:t>
            </a:r>
            <a:endParaRPr b="1" lang="en-US" sz="1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2" name="Picture 4" descr="kizhi6"/>
          <p:cNvPicPr/>
          <p:nvPr/>
        </p:nvPicPr>
        <p:blipFill>
          <a:blip r:embed="rId7"/>
          <a:srcRect l="0" t="0" r="14724" b="15039"/>
          <a:stretch/>
        </p:blipFill>
        <p:spPr>
          <a:xfrm>
            <a:off x="3505320" y="3048120"/>
            <a:ext cx="5410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18c7b"/>
                </a:solidFill>
                <a:latin typeface="Arial Rounded MT Bold"/>
              </a:rPr>
              <a:t>Люди Московского государства славились своим трудолюбием, мастерством и мудростью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1080" y="64450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А что за люди тогда жили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формулируйте тему уро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5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Земля и люди </a:t>
            </a:r>
            <a:br>
              <a:rPr sz="8800"/>
            </a:b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Московского государства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4:09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