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DAB1-68B5-418A-A6B5-B4463025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4D79-AB70-42CA-BC5F-21194379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8725-6C68-443E-9703-CB3508A2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2487-FD5B-4968-86D4-F464DB09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9657-3B57-4295-982B-6F01880B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E62B-534E-4403-A179-83563003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2C53-26F0-43F3-B3EB-CAAE2814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0A5D-9F52-48C9-AB91-CBCABDF8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7E95-0DE2-476E-AE3F-C7EC2261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8515-F074-4D0A-8D4F-DF02B699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7ACE-F55E-49AF-8C8D-52A8F410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EA03-7826-4978-86CF-C73B1D4E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4B28-CBEE-44B7-B88D-99AA14D5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5B8B-FB49-48CD-9401-5D847488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296C-1130-4FA9-8586-CECA039B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1576-4B1B-4E71-81BE-3230FCB3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0EF0-3C97-4B25-9470-BCAC97C7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E6E1-4A0B-4347-8AAF-F9EF1BA6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0AA6-5B9C-4C2E-A014-06E18140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BF65-C213-4845-A42C-4C17BAF4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AEFF-915C-41DA-AC25-0F5753CF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D8BE-9C65-4B02-A9C0-02D685C5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8884-292B-450E-A0BF-D38485C1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4BF1-0A89-43B1-BF7E-CB5C41C2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9B5E-D4EE-4A02-9434-038AF943F9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6067-A543-47B7-9D3E-B3A103E3D5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752480" y="0"/>
            <a:ext cx="5588280" cy="6040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5400" y="6064920"/>
            <a:ext cx="5097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Чем заканчиваются времена московского государства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ак называется следующий отрезок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ка делает крутой поворот. С чьим именем это связано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838080"/>
            <a:ext cx="422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ang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академик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геро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мореплаватель,                        то плот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Он всеобъемлющей душ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На троне вечный был рабо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А.С.Пушк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img3"/>
          <p:cNvPicPr/>
          <p:nvPr/>
        </p:nvPicPr>
        <p:blipFill>
          <a:blip r:embed="rId1"/>
          <a:stretch/>
        </p:blipFill>
        <p:spPr>
          <a:xfrm>
            <a:off x="5257800" y="914400"/>
            <a:ext cx="334332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914400" y="152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ётр Перв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038840" cy="4494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60" y="6505200"/>
            <a:ext cx="39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ие преобразования задумал Петр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45440" cy="47196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4"/>
          <p:cNvSpPr txBox="1"/>
          <p:nvPr/>
        </p:nvSpPr>
        <p:spPr>
          <a:xfrm>
            <a:off x="1447920" y="304920"/>
            <a:ext cx="617364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а армия </a:t>
            </a:r>
            <a:endParaRPr b="1" lang="en-US" sz="44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rcRect l="0" t="2083" r="0" b="0"/>
          <a:stretch/>
        </p:blipFill>
        <p:spPr>
          <a:xfrm>
            <a:off x="914400" y="1905120"/>
            <a:ext cx="349740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rcRect l="0" t="2322" r="4190" b="2322"/>
          <a:stretch/>
        </p:blipFill>
        <p:spPr>
          <a:xfrm>
            <a:off x="4572000" y="2666880"/>
            <a:ext cx="4191120" cy="31244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"/>
          <p:cNvSpPr txBox="1"/>
          <p:nvPr/>
        </p:nvSpPr>
        <p:spPr>
          <a:xfrm>
            <a:off x="1692360" y="620640"/>
            <a:ext cx="55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ромышленност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6324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 вы думаете, могут ли преобразования обходиться легко для народа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985080" cy="451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1676520" y="380880"/>
            <a:ext cx="5543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 флот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3"/>
          <p:cNvSpPr txBox="1"/>
          <p:nvPr/>
        </p:nvSpPr>
        <p:spPr>
          <a:xfrm>
            <a:off x="539640" y="228600"/>
            <a:ext cx="770436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ссия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вратилась 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льнейшее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сударство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5334120" y="3962520"/>
            <a:ext cx="2971800" cy="2219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19720" y="2285640"/>
            <a:ext cx="49528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Андреевский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 флаг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1640" y="4191120"/>
            <a:ext cx="3675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rcRect l="7702" t="20522" r="7702" b="25653"/>
          <a:stretch/>
        </p:blipFill>
        <p:spPr>
          <a:xfrm>
            <a:off x="609480" y="1905120"/>
            <a:ext cx="3353040" cy="2133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-228600" y="304920"/>
            <a:ext cx="49528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Российски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фла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3048120" y="1676520"/>
            <a:ext cx="3047760" cy="339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304920" y="3505320"/>
            <a:ext cx="2533680" cy="2819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6324480" y="3505320"/>
            <a:ext cx="2533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  <a:ea typeface="Arial"/>
              </a:rPr>
              <a:t>Академия наук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48002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Основана в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725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 году по распоряжению Петра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I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.                                                                                      Она называлась Императорская академия наук и художеств</a:t>
            </a:r>
            <a:r>
              <a:rPr b="1" i="1" lang="ru-RU" sz="3200" spc="-1" strike="noStrike">
                <a:solidFill>
                  <a:srgbClr val="ffcc66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rcRect l="0" t="0" r="0" b="32828"/>
          <a:stretch/>
        </p:blipFill>
        <p:spPr>
          <a:xfrm>
            <a:off x="2057400" y="1752480"/>
            <a:ext cx="5181480" cy="259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8:52:5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